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8D45-FEB4-40BA-8BBE-A129F0CE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C6F-354E-46D8-8AC6-463D6B3B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9F1-1BB5-434B-BA33-DF276401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144-450E-42AF-A8F2-1473D023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AA81-53B8-4988-9BAD-CBA370B2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4560-7938-431B-8977-CEC30DC0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B525-B382-4336-80FA-3EE4FF7F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E8A3-C595-4042-A9C1-7856B7DB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C560-29CD-4F39-B63B-D84DC2CE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5A62-50AF-43DA-997C-D96AC456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2E28-9608-4DB1-9CC3-1B788CEC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D58-32EB-4951-B5A8-BF471D41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0F08-EB30-4496-A828-755F33EB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4882-4DEF-4134-8762-447E82AD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D6B8-6BE7-4662-87E2-96419F1C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1D2B-4343-4F19-8590-472422EE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3AFB-6D72-42D7-BD7A-D99EE9C5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0C4-2AF1-4E10-B9F3-EBFAA6C4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B33-05A0-4E22-9DD6-EFE39838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397-5072-41B7-B25E-B3E0E8FE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570-3570-46B0-98CF-A515B4DE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872-F6CF-4B1B-9163-58AA8DE9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A332-0963-4B8B-A6D1-97EE6E21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0B5-255F-4C35-8738-AE9133EF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AF8C-FE5C-4C78-893D-0F4531601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A2FB-2A02-41D1-9ADE-AC1205663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3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1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and Perpendi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lines have the same sl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pendicular lines have slopes whose product equals -1.  They are negative reciproc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2200320" cy="2257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220032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tions in two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lution is a value for a variable that makes an equation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equation has two variables, it is a linear equation.   The values for the two variables together must make the equation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y=10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write the solution for a linear equ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should be written in ordered pairs, with the order (x, 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solution for 2x-y=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ctangle or Cartesian Coordinat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section of the two perpendicular axes is called the origin.  The ordered pair for the origin is (0, 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raph an ordered p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at the origin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right or left, based on the x valu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move up or down based on the y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46896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ng linear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orm for an equation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+By=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raph a linear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t least three solutions.  (To do this, pick a value of x and then find a value of y that will make the equation tru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s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line throug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346860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is the numerical measure of the steepness of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can be found using two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ur purposes, slope is shown by the variable 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y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-intercep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intercept form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mx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m= slope and b= the value at which the line crosses the y 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ng from slope intercept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a point on y axis, corresponding to the value of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lope to move upwards or downw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nge in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4686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0:23:58Z</dcterms:created>
  <dc:creator>nuhs</dc:creator>
  <dc:description/>
  <dc:language>en-US</dc:language>
  <cp:lastModifiedBy>nuhs</cp:lastModifiedBy>
  <dcterms:modified xsi:type="dcterms:W3CDTF">2007-09-10T20:27:18Z</dcterms:modified>
  <cp:revision>1</cp:revision>
  <dc:subject/>
  <dc:title>Chapter 3 Review</dc:title>
</cp:coreProperties>
</file>